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257-0141-43A5-90A9-E2344A675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3FA3-1C35-47E6-A157-D1E9173F14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4F86-B3C7-4F06-ADBA-149E658FAD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675-0BE0-4DF0-9E51-34D17B6018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6898-DD56-4761-9362-5FBF5EF19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27E-1937-4F18-8F20-B2D993BFD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CC4-00A1-4F71-B4EE-E8794F1C19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5E59-FFB5-40C9-BB25-5A630EF38F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875-200E-4986-A8AE-A54BBDF636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14F-6738-4077-A1AD-D3020D046E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1B6-7FF4-454B-A79C-90EE08C45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A6A-F8C0-410C-9A18-FDFB7875D5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269-7E33-4CBD-997E-899E6FA69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273B-74F9-4D36-9E24-E13B88D6F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424E-293E-432C-8FA8-0ABFB241C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34C-F4CA-4E2B-B4D7-983F35056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AECE-3C7E-43D2-A117-A406BD2ADD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54CA-E638-4CE4-A72E-D3FE4F929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4DD6-3A5B-4CD5-8391-CD12421D0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305-AECB-450C-8B1B-76F1EDBF3A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F32-38C8-454B-8250-B089EDAEE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445-3111-47EB-B658-0212B1145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3E22-5A15-4DA7-AF36-EDBED1505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D28-3377-4E32-B638-E3E6BEF3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905-E690-47B4-9C2A-5929538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298-97F2-4049-A51F-0845E28F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8C9-9D1A-463C-A0B0-E5FB3C51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3B4-F964-4342-B59B-05D6386C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C014-E498-4ED4-8F14-E588D44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95B-C2AC-4000-AF58-77ABB2F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3476-9997-4585-A7F7-78122401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842-C012-435E-8268-AAEA426A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AB2-040C-42EF-A986-C50506E6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C74C-79E4-40F1-9D9E-4DD88A5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CCC-0DB8-44F0-AF1C-379EDE9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B5F8-EBB7-4CCF-BA35-2CF32B5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C477-23E6-4D74-81B5-6E3AE51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65EB-187D-47C0-A5FC-5DC23B9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127-D39A-4784-8D0D-86E479D8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9F2D-8554-42E5-AAD5-2B7D9BCB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1DB-BF80-4C5E-8245-5C35406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95C-91C9-4375-894F-B62F63F7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BAF-FE85-4C21-82AF-AAD9FD7A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97E-0123-4C1A-997F-6D306ADA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1C2-7B9B-43ED-9F87-DADA1B30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E4E-CE33-414C-B276-37732DB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01C-A348-442E-A967-69DECC6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2F7-0BEF-43D3-A832-6C72DF4F2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7B8-1C07-41E2-BF6A-FF90F2203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Nutrient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Imp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have increased the amount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atmosphere from burning fossil fuels and w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nitrogen is needed to make many compounds found in th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(78%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as, but we can’t use i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 (tissues of living th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 perform many processes in the nitrogen cycle (nitrogen fixation, ammonification, denitrification, decomposi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2 (gas)  in the atmosphere and making it available in the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562360" y="228240"/>
            <a:ext cx="3352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elemental N2 in the soil and turning it into as NH4+ Ammo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fixing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Ammonium NH4+ and turning it into Nitrates NO2- then into Nitrites NO3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usable by plan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e by two different types of 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NO3- (nitrate) and turns back into gas N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and animals take in the nitrogen and convert it into the amino acids and DNA they need and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and an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5000" y="228240"/>
            <a:ext cx="3276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organic nitrogen from decomposing plants and animals or animal waste and turning into Ammonium NH4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, of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Generalized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erial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 between the regions of the earth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ydr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it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c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Imp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aber-Bosch Process removes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the atmosphere and use it to make fertiliz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It is a mineral that is needed for muscle growth and for the normal function of cells and tiss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48160" y="144756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: Mineral deposits and surface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: Tissues of living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841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take by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needed for many biological compounds such as DNA and for bone 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: Earth’s crust and top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: tissue of living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thering of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Impac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-off from farms contains high levels of phosphorus which make their way into streams, riv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o much of a good thing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trophication: build-up of too many nutrients such as nitrogen or phosphorus in a body of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ss nutrients cause excessive algae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lgae blocks sunlight from reaching the bottom, causing other algae to d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populations increase and feed off of the dead algae and use up all the oxygen in the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oxygen levels cause other aquatic organisms to die to leave the 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utrophi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500px-Eutrophication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ycle Terminolog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servoi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reas where things are stored; things can move in an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n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reas where materials are stored over long periods of time and in large qua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ocesses that move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utrophi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algae-bloom"/>
          <p:cNvPicPr/>
          <p:nvPr/>
        </p:nvPicPr>
        <p:blipFill>
          <a:blip r:embed="rId1"/>
          <a:stretch/>
        </p:blipFill>
        <p:spPr>
          <a:xfrm>
            <a:off x="304920" y="2895480"/>
            <a:ext cx="3429000" cy="2156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fish"/>
          <p:cNvPicPr/>
          <p:nvPr/>
        </p:nvPicPr>
        <p:blipFill>
          <a:blip r:embed="rId2"/>
          <a:stretch/>
        </p:blipFill>
        <p:spPr>
          <a:xfrm>
            <a:off x="5257800" y="1600200"/>
            <a:ext cx="3390840" cy="3467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swan_algae"/>
          <p:cNvPicPr/>
          <p:nvPr/>
        </p:nvPicPr>
        <p:blipFill>
          <a:blip r:embed="rId3"/>
          <a:stretch/>
        </p:blipFill>
        <p:spPr>
          <a:xfrm>
            <a:off x="2895480" y="2438280"/>
            <a:ext cx="25988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rb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Life on Earth is carbon based- we are made of molecules that contain carb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cell in your body contains carb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67280" y="1599840"/>
            <a:ext cx="2895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servoi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- Tissues of plants, animals, fungi, bacteri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- top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in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ssil Fuels (coal, oil, natural g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ck- lime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fossil fu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hort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-&gt; 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ing o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&gt; 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ontent Placeholder 3" descr="36-15-CarbonCycle-L.gif"/>
          <p:cNvPicPr/>
          <p:nvPr/>
        </p:nvPicPr>
        <p:blipFill>
          <a:blip r:embed="rId1"/>
          <a:stretch/>
        </p:blipFill>
        <p:spPr>
          <a:xfrm>
            <a:off x="228600" y="228600"/>
            <a:ext cx="5486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le 1"/>
          <p:cNvSpPr/>
          <p:nvPr/>
        </p:nvSpPr>
        <p:spPr>
          <a:xfrm>
            <a:off x="5791320" y="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ng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Placeholder 3"/>
          <p:cNvSpPr/>
          <p:nvPr/>
        </p:nvSpPr>
        <p:spPr>
          <a:xfrm>
            <a:off x="228600" y="3733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-&gt; 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ing o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&amp; 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ar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arth to Fossil Fuels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action + millions of year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ssil Fuels to Atmosphere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ontent Placeholder 3" descr="36-15-CarbonCycle-L.gif"/>
          <p:cNvPicPr/>
          <p:nvPr/>
        </p:nvPicPr>
        <p:blipFill>
          <a:blip r:embed="rId1"/>
          <a:stretch/>
        </p:blipFill>
        <p:spPr>
          <a:xfrm>
            <a:off x="228600" y="228600"/>
            <a:ext cx="510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10:04Z</dcterms:created>
  <dc:creator>deweesa</dc:creator>
  <dc:description/>
  <dc:language>en-US</dc:language>
  <cp:lastModifiedBy>Anne E. Van Meter</cp:lastModifiedBy>
  <dcterms:modified xsi:type="dcterms:W3CDTF">2009-10-06T13:31:40Z</dcterms:modified>
  <cp:revision>13</cp:revision>
  <dc:subject/>
  <dc:title>Nutrient Cycles</dc:title>
</cp:coreProperties>
</file>